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A7E-BA14-4678-A704-2FD6C6A4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F00-4BBE-43C4-8A17-9B17B96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266-AB6A-482D-A5AD-A4D0B246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E55-91A0-4BBA-899E-F5203C17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384-9E7A-4CEB-984A-3358B64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243-CB2C-4580-9067-E12F5416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D84-16A1-4C55-9B6F-670D9750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767-EA50-4B4A-9FDC-22228B72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347-1B5F-4E0F-9240-ED11F3C9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9A2-8FE4-4D43-BB53-391998BB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28E-0147-44EE-B846-1D98F72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50E-387C-4D83-AAB4-B4034FC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93B9-90C2-4C54-8BB5-CA9CC10A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368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cript MT Bold"/>
              </a:rPr>
              <a:t>Ginger McKinney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3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6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8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Script MT Bold"/>
              </a:rPr>
              <a:t>Robin Buchan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Chad Young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-263880"/>
            <a:ext cx="7696080" cy="23266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2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5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368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cript MT Bold"/>
              </a:rPr>
              <a:t>Mason Byr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3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4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6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Alyssia Banks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Juliana Alle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Brenea Waldrup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Trey Banks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Matthew Letterma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Abigail Ayers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Rory Ledford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Summer Wil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Nicky Pittm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Kennady Coop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Caitlin Ledbetter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Brianna O’Hag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Shane David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Anika Pittm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Marcus Silv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Mason Booth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Bailie Hop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C. J. Wil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Stetson Fox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30:44Z</dcterms:created>
  <dc:creator>Yancey County Schools</dc:creator>
  <dc:description/>
  <dc:language>en-US</dc:language>
  <cp:lastModifiedBy>Elementary Education</cp:lastModifiedBy>
  <dcterms:modified xsi:type="dcterms:W3CDTF">2011-04-28T19:43:43Z</dcterms:modified>
  <cp:revision>9</cp:revision>
  <dc:subject/>
  <dc:title> </dc:title>
</cp:coreProperties>
</file>